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1EA-8F98-44CF-B706-5B414BB851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FE8A-EBA0-4B5C-8D59-812F986566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l año 2010 es seguro que por primera vez en España el número de médicos en activo ( en cualquiera de las modalidades de trabajo) superará en cifras absolutas a la de hombres.En el año 2009 ya el 44,26% de trabajadores en el campo de la sanidad eran muje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B45-085D-4654-9BFE-01C530943C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16.889 médicos jubilados, solo 1850 eran mujeres ( total de médicos en 2009: 219.0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411-B178-4293-9A63-ECDC7FA2FA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sta el grupo de edad 35-54 las mujeres suponen un total de 75.327 personas en activo mientras que los hombres del mismo grupo son un total de 71.929 ( 48,8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C54-B3C3-4995-B970-C5FCD0D7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E32-FAAA-4031-BDF1-2CD53D8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0AA-9040-4963-A560-03F42B54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673-DBF3-4DE7-9679-73B3E57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13B-B877-457B-813C-940B8EF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842-340D-44C5-AD8F-F33D05D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F9-AD08-47A0-AE01-28D6390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BA8-6C54-4AA2-8464-0AD0B4B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5C7-18B0-4F4B-840C-1E4E8F6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4C1-AD0E-4369-B1D0-6ECDC3F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656-F9BF-4B86-9EEC-7D50278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2C8-3F29-486F-A3E4-F2C4AFB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CD1D-7E31-4062-98E6-9D002CC590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Evolución de la Feminización en la Profesión Médica en Españ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ños 1995-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57600" y="5943600"/>
            <a:ext cx="54864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SPROM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otal de médicos colegiado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 Evolución por sexos 1995-200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Médicos Colegiados en activo 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año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Estructura y composición de médicos jubilados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Estructura de la población médica por grupos etarios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( año 200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Escritorio\tabla 3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\Escritorio\tabla 3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84360" y="836640"/>
          <a:ext cx="784836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78483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324000" y="549360"/>
          <a:ext cx="8424720" cy="59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549360"/>
                    <a:ext cx="84247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3"/>
          <p:cNvGraphicFramePr/>
          <p:nvPr/>
        </p:nvGraphicFramePr>
        <p:xfrm>
          <a:off x="530280" y="663480"/>
          <a:ext cx="82738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663480"/>
                    <a:ext cx="82738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755640" y="620640"/>
          <a:ext cx="734544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3454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684360" y="692280"/>
          <a:ext cx="777528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92280"/>
                    <a:ext cx="777528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755640" y="692280"/>
          <a:ext cx="8785080" cy="54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878508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900000" y="692280"/>
          <a:ext cx="741708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741708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84360" y="765000"/>
          <a:ext cx="7991280" cy="568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7991280" cy="56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84360" y="765000"/>
          <a:ext cx="7920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7920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8:55:55Z</dcterms:created>
  <dc:creator>jaabascal</dc:creator>
  <dc:description/>
  <dc:language>en-US</dc:language>
  <cp:lastModifiedBy>admin</cp:lastModifiedBy>
  <dcterms:modified xsi:type="dcterms:W3CDTF">2010-11-17T17:48:53Z</dcterms:modified>
  <cp:revision>31</cp:revision>
  <dc:subject/>
  <dc:title>Evolución de la Feminización en la Profesión Médica</dc:title>
</cp:coreProperties>
</file>